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DBB9D-B1D1-4C93-9D9B-CDC67E82F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BB439-A813-4C3A-87F1-5DB31103F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964FD6-FCCD-4DF1-AE78-1CE46DB6E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466FD2-7262-4A88-B884-1B1363F846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A4103-CD3B-43B6-BE9E-EE507645FD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ADD5F3-73B5-4E7E-9A08-4EF00E449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08B465-DD50-42DF-8405-6ABD95FBE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596709-34F4-421A-B692-33854DCECF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A994E-524E-4E46-92F2-59D6B973A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1E75E4-B7CB-431F-9F45-E17FAAE03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105C4-92E5-459A-B2B4-227268710C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8C11A-1872-4BF0-9C33-D640FC231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EDE26-42B7-4DAE-8B16-C49344B08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B95B0-834D-48D7-880A-F623DD7AC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C0DBB-DD77-48CF-BD1B-B457CB6D08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2375B-217F-4613-B40D-362EBE7A46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3C6DD2-2B70-4D96-A1C3-9D69942C2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FCE20-2C0C-4C12-86DE-58A0E08E85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1623B-A966-4C34-99D4-CA010B7561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4E5EF7-3670-4A00-AAC1-0B923742CC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95EAE5-1F37-4004-B1FD-72D8D90A1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730F-B82E-4242-8254-F7E0D83E48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B48E6-5595-430E-BF8A-E33D1A5F3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01D38-0C06-41AF-AB64-DD13567B5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46A28-9178-4B68-8D5C-1916ADE30AC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900C-EE31-42AF-A44E-B3EF1A09562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4560"/>
            <a:ext cx="7772400" cy="1469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Friday, October 23, 2008</a:t>
            </a:r>
            <a:endParaRPr b="1" lang="en-US" sz="4800" spc="-1" strike="noStrike">
              <a:solidFill>
                <a:srgbClr val="330066"/>
              </a:solidFill>
              <a:latin typeface="Arial"/>
            </a:endParaRPr>
          </a:p>
        </p:txBody>
      </p:sp>
      <p:sp>
        <p:nvSpPr>
          <p:cNvPr id="150" name="PlaceHolder 2"/>
          <p:cNvSpPr>
            <a:spLocks noGrp="1"/>
          </p:cNvSpPr>
          <p:nvPr>
            <p:ph type="subTitle"/>
          </p:nvPr>
        </p:nvSpPr>
        <p:spPr>
          <a:xfrm>
            <a:off x="1447920" y="2437920"/>
            <a:ext cx="6400800" cy="1752840"/>
          </a:xfrm>
          <a:prstGeom prst="rect">
            <a:avLst/>
          </a:prstGeom>
          <a:noFill/>
          <a:ln w="0">
            <a:noFill/>
          </a:ln>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a:rPr>
              <a:t>Objective: Students will be able to create their own text features to unformatted artic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iterate type="lt">
                                    <p:tmAbs val="100"/>
                                  </p:iterate>
                                  <p:childTnLst>
                                    <p:set>
                                      <p:cBhvr>
                                        <p:cTn id="6" dur="1" fill="hold">
                                          <p:stCondLst>
                                            <p:cond delay="0"/>
                                          </p:stCondLst>
                                        </p:cTn>
                                        <p:tgtEl>
                                          <p:spTgt spid="149"/>
                                        </p:tgtEl>
                                        <p:attrNameLst>
                                          <p:attrName>style.visibility</p:attrName>
                                        </p:attrNameLst>
                                      </p:cBhvr>
                                      <p:to>
                                        <p:strVal val="visible"/>
                                      </p:to>
                                    </p:set>
                                    <p:animEffect filter="fade" transition="in">
                                      <p:cBhvr additive="repl">
                                        <p:cTn id="7" dur="1000">
                                          <p:stCondLst>
                                            <p:cond delay="0"/>
                                          </p:stCondLst>
                                        </p:cTn>
                                        <p:tgtEl>
                                          <p:spTgt spid="1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iterate type="lt">
                                    <p:tmAbs val="100"/>
                                  </p:iterate>
                                  <p:childTnLst>
                                    <p:set>
                                      <p:cBhvr>
                                        <p:cTn id="11" dur="1" fill="hold">
                                          <p:stCondLst>
                                            <p:cond delay="0"/>
                                          </p:stCondLst>
                                        </p:cTn>
                                        <p:tgtEl>
                                          <p:spTgt spid="150">
                                            <p:txEl>
                                              <p:pRg st="0" end="0"/>
                                            </p:txEl>
                                          </p:spTgt>
                                        </p:tgtEl>
                                        <p:attrNameLst>
                                          <p:attrName>style.visibility</p:attrName>
                                        </p:attrNameLst>
                                      </p:cBhvr>
                                      <p:to>
                                        <p:strVal val="visible"/>
                                      </p:to>
                                    </p:set>
                                    <p:animEffect filter="fade" transition="in">
                                      <p:cBhvr additive="repl">
                                        <p:cTn id="12" dur="1000">
                                          <p:stCondLst>
                                            <p:cond delay="0"/>
                                          </p:stCondLst>
                                        </p:cTn>
                                        <p:tgtEl>
                                          <p:spTgt spid="1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Do-Now</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low is a chart that has text in the left-hand column. In the middle column, the writer has formatted and changed the text. Write what you think they did to the text in the right-hand column. (One word answers are fine!) </a:t>
            </a:r>
            <a:endParaRPr b="0" lang="en-US" sz="2600" spc="-1" strike="noStrike">
              <a:solidFill>
                <a:srgbClr val="000000"/>
              </a:solidFill>
              <a:latin typeface="Arial"/>
            </a:endParaRPr>
          </a:p>
        </p:txBody>
      </p:sp>
      <p:sp>
        <p:nvSpPr>
          <p:cNvPr id="153" name="PlaceHolder 3"/>
          <p:cNvSpPr>
            <a:spLocks noGrp="1"/>
          </p:cNvSpPr>
          <p:nvPr>
            <p:ph/>
          </p:nvPr>
        </p:nvSpPr>
        <p:spPr>
          <a:xfrm>
            <a:off x="4648320" y="1719360"/>
            <a:ext cx="4038480" cy="4411440"/>
          </a:xfrm>
          <a:prstGeom prst="rect">
            <a:avLst/>
          </a:prstGeom>
          <a:noFill/>
          <a:ln w="0">
            <a:noFill/>
          </a:ln>
        </p:spPr>
        <p:txBody>
          <a:bodyPr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swer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Unformatted Text</a:t>
            </a:r>
            <a:endParaRPr b="1" lang="en-US" sz="3900" spc="-1" strike="noStrike">
              <a:solidFill>
                <a:srgbClr val="330066"/>
              </a:solidFill>
              <a:latin typeface="Arial"/>
            </a:endParaRPr>
          </a:p>
        </p:txBody>
      </p:sp>
      <p:sp>
        <p:nvSpPr>
          <p:cNvPr id="15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formatted text is a piece of writing that has not been formatted– meaning there are no titles, bold print, italics, or any other organizational features to i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y are hard to read and very confus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day you will practice “formatting” the text by adding text features to the article.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Getting started…</a:t>
            </a:r>
            <a:endParaRPr b="1" lang="en-US" sz="3900" spc="-1" strike="noStrike">
              <a:solidFill>
                <a:srgbClr val="330066"/>
              </a:solidFill>
              <a:latin typeface="Arial"/>
            </a:endParaRPr>
          </a:p>
        </p:txBody>
      </p:sp>
      <p:sp>
        <p:nvSpPr>
          <p:cNvPr id="15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the following article. Look at it. What is it missing?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would you edit it to make the article look more physically pleas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ad along with Ms. Samadi to help her make sub-titles and a tit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3520" y="457200"/>
            <a:ext cx="8153280" cy="6019920"/>
          </a:xfrm>
          <a:prstGeom prst="rect">
            <a:avLst/>
          </a:prstGeom>
          <a:noFill/>
          <a:ln w="0">
            <a:noFill/>
          </a:ln>
        </p:spPr>
        <p:txBody>
          <a:bodyPr anchor="t">
            <a:normAutofit/>
          </a:bodyPr>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nding an IM, or instant message, is a great way to stay in contact with your family, friends and coworkers. Quick and easy, instant messaging is not just for kids anymore. Follow these steps to learn how to IM and you will be having online conversations in no tim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re are many free programs available for download. AOL, Yahoo, Microsoft Messenger and ICQ are popular free IM programs. A downloadable IM will install quickly and easily. Read the tutorial or help guide to learn about the program.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he program you choose will lead you through the steps to sign up and create a screen name. People will use this name to IM you, so choose something that is easy to remember but unique to your personality. If you would like to stay anonymous on the web, do not use your real name as your screen nam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ll your friends about your new screen name and add them to your IM friends list. Add other contact information for your friends including phone number, address and birthday.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oose an icon or photo that people will see when they instant message you. You can also change your fonts and color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lect the appropriate security features. The IM program will most likely have a place where you can protect your privacy by selecting who is allowed to IM you. Some programs let you choose when and how others see if you are onlin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art instant messaging. Follow your IM program's instructions to click on a friend's name and send a message.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040"/>
            <a:ext cx="8381880" cy="563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Where would you add a sub-title?</a:t>
            </a:r>
            <a:endParaRPr b="1" lang="en-US" sz="3500" spc="-1" strike="noStrike">
              <a:solidFill>
                <a:srgbClr val="330066"/>
              </a:solidFill>
              <a:latin typeface="Arial"/>
            </a:endParaRPr>
          </a:p>
        </p:txBody>
      </p:sp>
      <p:sp>
        <p:nvSpPr>
          <p:cNvPr id="160" name="PlaceHolder 2"/>
          <p:cNvSpPr>
            <a:spLocks noGrp="1"/>
          </p:cNvSpPr>
          <p:nvPr>
            <p:ph/>
          </p:nvPr>
        </p:nvSpPr>
        <p:spPr>
          <a:xfrm>
            <a:off x="457200" y="685800"/>
            <a:ext cx="8229600" cy="5943600"/>
          </a:xfrm>
          <a:prstGeom prst="rect">
            <a:avLst/>
          </a:prstGeom>
          <a:noFill/>
          <a:ln w="0">
            <a:noFill/>
          </a:ln>
        </p:spPr>
        <p:txBody>
          <a:bodyPr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ing an IM, or instant message, is a great way to stay in contact with your family, friends and coworkers. Quick and easy, instant messaging is not just for kids anymore. Follow these steps to learn how to IM and you will be having online conversations in no time.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re are many free programs available for download. AOL, Yahoo, Microsoft Messenger and ICQ are popular free IM programs. A downloadable IM will install quickly and easily. Read the tutorial or help guide to learn about the program.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e program you choose will lead you through the steps to sign up and create a screen name. People will use this name to IM you, so choose something that is easy to remember but unique to your personality. If you would like to stay anonymous on the web, do not use your real name as your screen nam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040"/>
            <a:ext cx="8534520" cy="487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Arial"/>
              </a:rPr>
              <a:t>Where would you add a sub-title?</a:t>
            </a:r>
            <a:endParaRPr b="1" lang="en-US" sz="3500" spc="-1" strike="noStrike">
              <a:solidFill>
                <a:srgbClr val="330066"/>
              </a:solidFill>
              <a:latin typeface="Arial"/>
            </a:endParaRPr>
          </a:p>
        </p:txBody>
      </p:sp>
      <p:sp>
        <p:nvSpPr>
          <p:cNvPr id="162" name="PlaceHolder 2"/>
          <p:cNvSpPr>
            <a:spLocks noGrp="1"/>
          </p:cNvSpPr>
          <p:nvPr>
            <p:ph/>
          </p:nvPr>
        </p:nvSpPr>
        <p:spPr>
          <a:xfrm>
            <a:off x="228600" y="533160"/>
            <a:ext cx="8763120" cy="6172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itle 1:____________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ll your friends about your new screen name and add them to your IM friends list. Add other contact information for your friends including phone number, address and birthda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itle 2:____________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ose an icon or photo that people will see when they instant message you. You can also change your fonts and color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itle 3 :____________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the appropriate security features. The IM program will most likely have a place where you can protect your privacy by selecting who is allowed to IM you. Some programs let you choose when and how others see if you are onlin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btitle 4:_____________</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instant messaging. Follow your IM program's instructions to click on a friend's name and send a messag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illustration would you add?</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would your matching graphic b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air work</a:t>
            </a: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Directions: </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0066"/>
                </a:solidFill>
                <a:latin typeface="Arial"/>
              </a:rPr>
              <a:t>Read the article.</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cc00"/>
                </a:solidFill>
                <a:latin typeface="Arial"/>
              </a:rPr>
              <a:t>Add a title and sub-titles.</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e9ce8"/>
                </a:solidFill>
                <a:latin typeface="Arial"/>
              </a:rPr>
              <a:t>Draw an illustration.</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8080"/>
                </a:solidFill>
                <a:latin typeface="Arial"/>
              </a:rPr>
              <a:t>Add a caption</a:t>
            </a:r>
            <a:endParaRPr b="0" lang="en-US" sz="3000" spc="-1" strike="noStrike">
              <a:solidFill>
                <a:srgbClr val="000000"/>
              </a:solidFill>
              <a:latin typeface="Arial"/>
            </a:endParaRPr>
          </a:p>
          <a:p>
            <a:pPr marL="571680" indent="-571680">
              <a:spcBef>
                <a:spcPts val="751"/>
              </a:spcBef>
              <a:buClr>
                <a:srgbClr val="3300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9999"/>
                </a:solidFill>
                <a:latin typeface="Arial"/>
              </a:rPr>
              <a:t>Make notes of where you might add special formatting to the text such as </a:t>
            </a:r>
            <a:r>
              <a:rPr b="1" lang="en-US" sz="3000" spc="-1" strike="noStrike">
                <a:solidFill>
                  <a:srgbClr val="669999"/>
                </a:solidFill>
                <a:latin typeface="Arial"/>
              </a:rPr>
              <a:t>bold print,</a:t>
            </a:r>
            <a:r>
              <a:rPr b="0" lang="en-US" sz="3000" spc="-1" strike="noStrike">
                <a:solidFill>
                  <a:srgbClr val="669999"/>
                </a:solidFill>
                <a:latin typeface="Arial"/>
              </a:rPr>
              <a:t> </a:t>
            </a:r>
            <a:r>
              <a:rPr b="0" i="1" lang="en-US" sz="3000" spc="-1" strike="noStrike">
                <a:solidFill>
                  <a:srgbClr val="669999"/>
                </a:solidFill>
                <a:latin typeface="Arial"/>
              </a:rPr>
              <a:t>italicized text,</a:t>
            </a:r>
            <a:r>
              <a:rPr b="0" lang="en-US" sz="3000" spc="-1" strike="noStrike">
                <a:solidFill>
                  <a:srgbClr val="669999"/>
                </a:solidFill>
                <a:latin typeface="Arial"/>
              </a:rPr>
              <a:t> </a:t>
            </a:r>
            <a:r>
              <a:rPr b="0" lang="en-US" sz="3000" spc="-1" strike="noStrike" u="sng">
                <a:solidFill>
                  <a:srgbClr val="669999"/>
                </a:solidFill>
                <a:uFillTx/>
                <a:latin typeface="Arial"/>
              </a:rPr>
              <a:t>underlined text</a:t>
            </a:r>
            <a:r>
              <a:rPr b="0" lang="en-US" sz="3000" spc="-1" strike="noStrike">
                <a:solidFill>
                  <a:srgbClr val="669999"/>
                </a:solidFill>
                <a:latin typeface="Arial"/>
              </a:rPr>
              <a:t>, etc.</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20:03:22Z</dcterms:created>
  <dc:creator>BPD</dc:creator>
  <dc:description/>
  <dc:language>en-US</dc:language>
  <cp:lastModifiedBy>BPS</cp:lastModifiedBy>
  <dcterms:modified xsi:type="dcterms:W3CDTF">2009-10-23T02:34:54Z</dcterms:modified>
  <cp:revision>3</cp:revision>
  <dc:subject/>
  <dc:title>Wednesday, May 7, 2008</dc:title>
</cp:coreProperties>
</file>